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2640" y="685440"/>
            <a:ext cx="45687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5B51DF-4DF0-4EB2-9C17-7D6158EEF8E3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A448D-EE64-4996-BCB7-E3E480EBD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F825B-5EAA-4A25-9B92-37755D9F4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1E134-968E-4A77-9948-232F41806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200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92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200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92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3078F-B673-4B64-A493-26CC898FE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0C91B-FC86-458F-A89A-14E67C05F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9C686-FA03-435E-9CE0-96BAAD0AC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15494-2113-4DB1-8722-9C2D94625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303FC-482B-44E4-B1F7-1538399D3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65AC5-0C51-4DFB-B376-6E4C9C001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6EA83-21CB-46C9-B992-A660223C8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D9973-61B4-4915-81C1-4D2D7241C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77312-330A-40D5-8A60-BAC4A8735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1800" indent="-27180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91840" indent="-2260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28016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B71C7B-CD8A-4DC5-A16B-1E661C952F4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258920" y="836640"/>
            <a:ext cx="66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NEW MODES OF GATHERING SURVEY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195640" y="2781360"/>
            <a:ext cx="50403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ELLULAR PH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24000" y="189000"/>
            <a:ext cx="8496000" cy="6408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uan Díez Nicolás</dc:creator>
  <dc:description/>
  <dc:language>en-US</dc:language>
  <cp:lastModifiedBy>NickM</cp:lastModifiedBy>
  <cp:revision>0</cp:revision>
  <dc:subject/>
  <dc:title>Sin título de diapositiva</dc:title>
</cp:coreProperties>
</file>