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1000B-DBEB-4B04-B612-64F6BAF96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929E0-73FE-4731-A018-DF53BD799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DBE79-EAD5-4769-AD15-358BD7945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0AD87-B998-40F4-9D01-5F10BDBDA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5BEC2-A5C4-41B4-9505-5AF8F30D2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F518C-3251-4CE6-913A-1A2CA934C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EC576-9DF9-43A6-A225-03CFC52BF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06102-9353-44B3-BD69-0C10B8605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67F2A-87AA-4ABF-9EEF-685B55339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3A7CF-68D2-4DAC-A75D-1F198B550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28E50-E017-4E99-A3A5-051D611DD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2104A-8CCB-464E-ABFD-231CB453F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D42BA0-8558-41EF-8A4E-060210FD42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0T22:04:20Z</dcterms:created>
  <dc:creator>Brion </dc:creator>
  <dc:description/>
  <dc:language>en-US</dc:language>
  <cp:lastModifiedBy/>
  <cp:revision>1</cp:revision>
  <dc:subject/>
  <dc:title/>
</cp:coreProperties>
</file>